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21B-764A-4444-8C72-C4CF3CE7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E11-53D2-4BBE-B97B-1C226D81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50C9-5524-46B9-A4A1-56D44DAA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4415-24D0-4578-8954-692417C9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5DB-D484-4C71-9C2E-81E3B689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7C7-1B23-42E1-94CE-B3284143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73F5-980C-45EC-BC2F-CD2F630A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DF79-F3D3-4639-B11E-DD26F59E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613-17C9-4478-87C8-A2606720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5FC6-1466-4F01-8B64-E66A998E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448B-876E-4D5D-9861-92A3B713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B62-FDB1-4A4E-BB22-B6A0579F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6C1B-227F-4EF6-9299-09A1845F5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Tobacco, Alcohol &amp; Drug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, State &amp; District – 2004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762120" y="6324480"/>
            <a:ext cx="55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PRIDE Surv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Cigarettes, Smokeless Tobacco &amp; Cigar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, State &amp; District – 2004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62120" y="6324480"/>
            <a:ext cx="55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PRIDE Surv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Beer, Wine Coolers &amp; Liquor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, State &amp; District – 2004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762120" y="6324480"/>
            <a:ext cx="55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PRIDE Surv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Marijuana, Cocaine, Uppers, Downers, Inhalants, Hallucinogens, Heroin, Steroids, Ecstasy &amp; OxyContin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, State &amp; District – 2004-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320" y="1600200"/>
          <a:ext cx="9061200" cy="45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0" y="1600200"/>
                    <a:ext cx="906120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762120" y="6324480"/>
            <a:ext cx="55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PRIDE Surv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18:31:09Z</dcterms:created>
  <dc:creator> Mark Pitcock</dc:creator>
  <dc:description/>
  <dc:language>en-US</dc:language>
  <cp:lastModifiedBy>Thomas Gleaton</cp:lastModifiedBy>
  <dcterms:modified xsi:type="dcterms:W3CDTF">2006-02-21T19:51:32Z</dcterms:modified>
  <cp:revision>4</cp:revision>
  <dc:subject/>
  <dc:title>Use of Tobacco, Alcohol &amp; Drugs National, State &amp; District</dc:title>
</cp:coreProperties>
</file>